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5FA79-C6AF-433D-868B-FD5CDDB30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8B74-B77A-4071-8EB2-2BA655AB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CCEF8-6F3F-4255-A189-1CFBDDAF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E500-4E53-423D-99D2-BD8709CAF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67038-89E1-48FC-BD56-CF776EBE3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7AC42-6B9C-4558-BB48-7DAE171CB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C0C4C-8137-4ACA-A048-60BC293EC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37FF3-6128-4726-A2A1-5BA8B1983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F48DD-DFC5-4C18-9967-BCC0A4A4E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0F174-ADD8-464C-B3FD-329A07836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73A6-8063-490E-85E9-9A1E76321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4318C-5BDE-4D35-B275-2E2183BDA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34FA-4B35-4702-A5EF-A4327460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EF75-A243-4058-AF1E-5EC2184EA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5145C-4110-48B8-AC3A-566A26B47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52F81-A8BA-4490-BF66-CD3E97D83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1BE8B-1569-49D0-9492-96265E59C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083177-6E0D-4F7A-95B8-91866F2911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0C620-7B2B-40B3-83A4-756415E5F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055B1-979C-4122-ACA2-1B794260C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D0E4C-7DE3-4DDC-9F88-220483B30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C9F44-1DEB-44D6-AEF0-3847589302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4554C-C63E-45AA-ABEB-512D8EFEC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3F6FF-420A-4A4D-A345-EEC0AFE06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06496-60F3-4273-A86A-264002339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17396-31C0-4733-A0F8-D1CAAB733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75C52-1C79-4240-911F-2E24DE7EE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0584B-C3A4-4452-9776-85C80FDE2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C2016-B52E-4B46-BEDB-CBEC9BB80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6BC576-68B3-41C5-B288-5B0935167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FA56E-43B9-4CD3-942E-A89884B9D6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FC09B-70D4-4AB2-B723-799B40C09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5639B-165A-4127-B507-FFD72585E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1E0C-C9A1-42FC-B6D6-D169108F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057A3-0C8F-4EB6-9209-7C742B562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5540B-C5EF-4AC2-8E96-358741643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146BC-A17F-4466-B6AE-70C0CCAF3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27159-EE62-4A1A-BB6E-3B171E772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F0360-5307-482C-8C15-DB1D18F61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B22C1-3EB9-4FFE-830B-6E2723405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3F504-239F-49CB-AB95-6CBA502D1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B8E2D-D5C2-42FC-ACC4-97CCD28702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032230-6BD6-4771-A514-9B30605BE9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33BE4-DC9E-4CB4-AFE7-C18134576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4656E-6D68-4F04-A1D5-764669CF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42640-955E-415C-B5EC-1786F77F7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75B0-B62F-40F5-B81B-B956C843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591C-7103-462B-8D07-92DA2CCD3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DD8B-93B0-4C56-B68B-328CF50409D4}"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0C14-1331-4E3D-A5A3-F7E840EA943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B21A-0819-4F5D-8DB6-4A2DE36C0E2C}"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FC10-D24A-4B29-B9D1-D7331305A19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6109-E758-46BF-A94B-067AF859A465}" type="datetime">
              <a:rPr b="0" lang="en-US" sz="1200" spc="-1" strike="noStrike">
                <a:solidFill>
                  <a:srgbClr val="d1eaee"/>
                </a:solidFill>
                <a:latin typeface="Arial"/>
              </a:rPr>
              <a:t>07/31/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5D1C-8098-4F23-ABE7-CD345487C5C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29F6-F17E-466D-96E6-634F0ACB5726}"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8218-2AA8-485A-8FEC-7C06DF5494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3285-1C0F-4D07-A239-C3C26557069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4697-0147-4CFF-9AC6-1B69FECC56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8CCB-63B2-45F3-A3F6-4612C918635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5ADA-9E4F-4101-950F-60E504618E8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E92A-A570-4599-84E6-5EBFD58EDE2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93E3-4151-4651-8664-C33F1332E11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6214-C2D6-4615-B42B-30BB502DE04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AFD8-8687-4AFE-BD55-69CA1BC3C65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3ADE-8CB5-492F-B2CE-152123571C0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8C79-86F4-4B4A-B457-91843F8B06E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B2F1-BEC3-4902-945A-2B1776E1CC8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C475-D527-49CE-B02A-6F7E9D37545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1E78-C996-4499-B9D3-D2270FBF1EE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